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30FB-42D4-4E4E-A95D-8BB1CF5F6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4492-AB93-4FCE-8E54-DFD552AD1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D2D-79FB-4C72-983F-5D2C9F20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96C-320F-4EB6-974B-EF1210F1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5D0-3D59-43E8-8D8A-01501712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E21-D279-4AA3-B85B-B2221A65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33C-5DA7-4482-9C3A-4C7B2EAF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2B2-C1D6-4FAF-9947-E4DFE949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543-4377-4769-B46F-7885B96E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118-D75A-4BE5-8E2A-D8E53830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834-1FCB-47A1-894F-F06BD844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FA2-C8AE-4BB7-A8E7-5E87EB1B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F84-81B8-443E-B70A-A662C2BC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E1A-CF5B-4E5E-9229-2187B0A1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C254-E84D-48D0-A5EE-8C88D05FE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8477-0108-4687-BC7B-5012ED7A6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1488b"/>
                </a:solidFill>
                <a:latin typeface="comic"/>
              </a:rPr>
              <a:t>AutoCAD 2004</a:t>
            </a:r>
            <a:br>
              <a:rPr sz="6600"/>
            </a:br>
            <a:r>
              <a:rPr b="1" lang="en-US" sz="2400" spc="-1" strike="noStrike">
                <a:solidFill>
                  <a:srgbClr val="11488b"/>
                </a:solidFill>
                <a:latin typeface="comic"/>
              </a:rPr>
              <a:t>Lecture 2</a:t>
            </a:r>
            <a:br>
              <a:rPr sz="6600"/>
            </a:br>
            <a:r>
              <a:rPr b="1" lang="en-US" sz="3600" spc="-1" strike="noStrike">
                <a:solidFill>
                  <a:srgbClr val="11488b"/>
                </a:solidFill>
                <a:latin typeface="Arial Black"/>
              </a:rPr>
              <a:t>By</a:t>
            </a:r>
            <a:br>
              <a:rPr sz="6600"/>
            </a:br>
            <a:r>
              <a:rPr b="1" lang="en-U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Haseeb Jamal</a:t>
            </a:r>
            <a:br>
              <a:rPr sz="3200"/>
            </a:br>
            <a:r>
              <a:rPr b="1" lang="en-U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M. Rizwan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Arranged by UET, Computer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135252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E:\Back up\SJ.jpg"/>
          <p:cNvPicPr/>
          <p:nvPr/>
        </p:nvPicPr>
        <p:blipFill>
          <a:blip r:embed="rId3"/>
          <a:stretch/>
        </p:blipFill>
        <p:spPr>
          <a:xfrm>
            <a:off x="8296200" y="0"/>
            <a:ext cx="84780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066680" y="5410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aseebjamal_stn@yahoo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aboutciv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C223-F048-4985-B66E-8B057870E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ion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tan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ip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8970-AD6B-44A5-A132-3B2F4069F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m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802-C882-4F97-8698-8F02D46BA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l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6121-C3A3-469C-84C8-293567CCF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boutcivil.com/contact-u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CAD Video Tuto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boutcivil.com/autocad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CAD E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aboutcivil.com/autocad-ebooks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aboutciv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7F3E-1157-41B4-922B-5EC283C06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Hanif Jamal</dc:creator>
  <dc:description/>
  <dc:language>en-US</dc:language>
  <cp:lastModifiedBy>Hanif Jamal</cp:lastModifiedBy>
  <dcterms:modified xsi:type="dcterms:W3CDTF">2010-02-19T09:12:23Z</dcterms:modified>
  <cp:revision>149</cp:revision>
  <dc:subject/>
  <dc:title>AutoCAD</dc:title>
</cp:coreProperties>
</file>